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875-C8C6-48EE-A531-07B915EF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BD5-2FB6-4DC5-9DC6-36D6465E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244-DB33-40C5-B22F-0A2FED7D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E9A-5F08-4259-AB8F-51A9A267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509-203E-44BA-831F-87635505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5A6-516E-4F86-96A9-4440D9E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6BD-E295-409F-B888-ABB1F6EA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7EC-E4E9-4A52-BB94-543BD9C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643-3214-4FBF-A519-AE1274DA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D20-69D4-4158-A45C-972AEA6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64C-D5AB-464B-B2B6-B2EFB87F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3EC-6356-4DA6-9DAD-50D4FD1C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di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78C0-4F0A-4E28-A991-E429A532AB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de 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CURSO BÁSICO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DE LINU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baseline="4000">
                <a:solidFill>
                  <a:srgbClr val="b2b2b2"/>
                </a:solidFill>
                <a:latin typeface="Times New Roman"/>
              </a:rPr>
              <a:t>Editor emac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jecutar emacs: desde la línea de comandos, teclear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mac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brir un archiv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x C-f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y tecleamos el nombre del arch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uardar un archiv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x C-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; si el archivo no tiene nombre, tendremos que teclear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uardar un archivo con otro nombre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x C-w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alir de Emacs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x C-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; si existe algún buffer sin guardar, Emacs nos preguntará si lo queremos guardar o desechar los camb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ancelar un comando antes de terminarl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g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676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IMEROS COM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rso básico de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DB8-7231-48B5-95E6-E310E03A2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baseline="4000">
                <a:solidFill>
                  <a:srgbClr val="b2b2b2"/>
                </a:solidFill>
                <a:latin typeface="Times New Roman"/>
              </a:rPr>
              <a:t>Editor emac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ota: que los cursores funcionen correctamente puede depender del programa de emulación de terminal que estemos us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caracter anterior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b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(b de "back", atrás en ingl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caracter siguiente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f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f de "forward", adelante en inglé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 la palabra anterior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b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 la palabra siguiente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f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final de la frase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principio de la frase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final del párraf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[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principio del párraf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]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676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VIÉNDONOS POR EM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rso básico de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A7D-9CC3-4CFD-8B72-F366BA7934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baseline="4000">
                <a:solidFill>
                  <a:srgbClr val="b2b2b2"/>
                </a:solidFill>
                <a:latin typeface="Times New Roman"/>
              </a:rPr>
              <a:t>Editor emac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 la linea anterior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p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p de "previous", previo en inglé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 la linea siguiente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n de "next", siguiente en inglé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principio de la line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a es la primera letra del alfabe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final de la line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e de "end", final en inglé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principio del text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&lt;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vernos al final del text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&gt;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vanzar una pantall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v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etrasar una pantall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v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r a una linea concret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x goto-lin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ostrar el número de line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-x what-lin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76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VIÉNDONOS POR EM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rso básico de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31B-BE3F-4223-8AFA-19C3E3A6D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baseline="4000">
                <a:solidFill>
                  <a:srgbClr val="b2b2b2"/>
                </a:solidFill>
                <a:latin typeface="Times New Roman"/>
              </a:rPr>
              <a:t>Editor emac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orrar el carácter bajo el cursor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d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orrar el carácter detras del cursor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ackspac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orrar hasta el final de linea o una linea vací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k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eshacer un comando de borrado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-x u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NK: http://www.sindominio.net/ayuda/emac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676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R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rso básico de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9AA-2FE0-45CB-87EC-43069E744D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b70b5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 baseline="4000">
                <a:solidFill>
                  <a:srgbClr val="b2b2b2"/>
                </a:solidFill>
                <a:latin typeface="Times New Roman"/>
              </a:rPr>
              <a:t>Otros editor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DITOR 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DITOR 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DITOR j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DITOR 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0"/>
            <a:ext cx="4572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2b70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gradFill rotWithShape="0">
            <a:gsLst>
              <a:gs pos="0">
                <a:srgbClr val="2b70b5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457200" cy="30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rso básico de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42B-BEA7-4FFD-A724-1C21C6561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7:47:41Z</dcterms:created>
  <dc:creator>Joaquin Garay</dc:creator>
  <dc:description/>
  <dc:language>en-US</dc:language>
  <cp:lastModifiedBy>Lengoaia eta Sistema Informatikoak Saila</cp:lastModifiedBy>
  <dcterms:modified xsi:type="dcterms:W3CDTF">2003-03-11T16:54:54Z</dcterms:modified>
  <cp:revision>139</cp:revision>
  <dc:subject/>
  <dc:title>Presentación de PowerPoint</dc:title>
</cp:coreProperties>
</file>