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FDF6-F925-4854-92E5-9E288EE1B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54E7-B0FC-477B-AA00-F8E847D1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6035-8EF7-4702-A8E0-7031539C0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5932-5624-4A84-913A-1E5B7DA19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D5A9-5495-4E50-BBD8-E2B564F4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0AAF-4A56-4472-A585-6F23C1C8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B690-CB7C-4CD0-ABF8-D0CF9C3F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7896-F9CE-4CBB-B67C-6CDBA541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90C4-35DC-4669-9CBD-C0871567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4D21-DF72-4349-9917-146DC83A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73A8-EC94-4E92-9DFB-4A130707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219E-057F-4A74-AB57-4438CD1B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2b70b5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F5EE-CFB5-46F9-9476-7311FEADDA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2b70b5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0" spc="-1" strike="noStrike" baseline="4000">
                <a:solidFill>
                  <a:srgbClr val="b2b2b2"/>
                </a:solidFill>
                <a:latin typeface="Times New Roman"/>
              </a:rPr>
              <a:t>Indice del Curs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362320"/>
            <a:ext cx="7620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0"/>
            <a:ext cx="4572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2b70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9144000" cy="304920"/>
          </a:xfrm>
          <a:prstGeom prst="rect">
            <a:avLst/>
          </a:prstGeom>
          <a:gradFill rotWithShape="0">
            <a:gsLst>
              <a:gs pos="0">
                <a:srgbClr val="2b70b5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371600"/>
            <a:ext cx="457200" cy="304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2133720"/>
            <a:ext cx="7924680" cy="36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1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ffff"/>
                </a:solidFill>
                <a:latin typeface="Times New Roman"/>
              </a:rPr>
              <a:t>Tema 1 - Introducció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1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ffff"/>
                </a:solidFill>
                <a:latin typeface="Times New Roman"/>
              </a:rPr>
              <a:t>Tema 2 - Comando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1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ffff"/>
                </a:solidFill>
                <a:latin typeface="Times New Roman"/>
              </a:rPr>
              <a:t>Tema 3 - Procesos y Entorn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1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ffff"/>
                </a:solidFill>
                <a:latin typeface="Times New Roman"/>
              </a:rPr>
              <a:t>Tema 4 - Shell y Editor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1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ffff"/>
                </a:solidFill>
                <a:latin typeface="Times New Roman"/>
              </a:rPr>
              <a:t>Tema 5 - Distribuciones e Instalació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1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ffff"/>
                </a:solidFill>
                <a:latin typeface="Times New Roman"/>
              </a:rPr>
              <a:t>Tema 6 - Interactuando con GNU/Linux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E299-F706-4FFA-AC7D-A48243106AC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2b70b5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0" spc="-1" strike="noStrike" baseline="4000">
                <a:solidFill>
                  <a:srgbClr val="b2b2b2"/>
                </a:solidFill>
                <a:latin typeface="Times New Roman"/>
              </a:rPr>
              <a:t>Introducció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2362320"/>
            <a:ext cx="7620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0"/>
            <a:ext cx="4572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2b70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371600"/>
            <a:ext cx="9144000" cy="304920"/>
          </a:xfrm>
          <a:prstGeom prst="rect">
            <a:avLst/>
          </a:prstGeom>
          <a:gradFill rotWithShape="0">
            <a:gsLst>
              <a:gs pos="0">
                <a:srgbClr val="2b70b5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371600"/>
            <a:ext cx="457200" cy="304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2133720"/>
            <a:ext cx="7696080" cy="42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es GNU/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Unix: El comien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Historia de GNU/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ituación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istrib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istema multiusuario y multit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Usuarios y permi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istema de fich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ntrando en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75D2-8807-4413-A5BA-1CBF092F17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2b70b5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0" spc="-1" strike="noStrike" baseline="4000">
                <a:solidFill>
                  <a:srgbClr val="b2b2b2"/>
                </a:solidFill>
                <a:latin typeface="Times New Roman"/>
              </a:rPr>
              <a:t>Usuarios y permisos (I)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Cuando un sistema es utilizado por diferentes personas es necesario un método para poder diferenciarlas. A cada usuario se le asigna un nombre de usuario (login) diferente que será el que utilice para entrar al sistem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Una cuenta es más que un nombre. Son todos los ficheros, recursos e información correspondientes al usuario. El termino se ha heredado del entorno bancario y aparece debido a la necesidad de cobrar por los servicios prestado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Además de las cuentas personales, existen otros usuarios definidos para tareas administrativas, como el root o administrador, y  también cuentas que no pertenecen a ningún usuario ‘real’ sino que son utilizadas por los demonios del siste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0"/>
            <a:ext cx="4572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2b70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371600"/>
            <a:ext cx="9144000" cy="304920"/>
          </a:xfrm>
          <a:prstGeom prst="rect">
            <a:avLst/>
          </a:prstGeom>
          <a:gradFill rotWithShape="0">
            <a:gsLst>
              <a:gs pos="0">
                <a:srgbClr val="2b70b5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371600"/>
            <a:ext cx="457200" cy="304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4D0E-69B6-4952-B7DC-19DFF51070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2b70b5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0" spc="-1" strike="noStrike" baseline="4000">
                <a:solidFill>
                  <a:srgbClr val="b2b2b2"/>
                </a:solidFill>
                <a:latin typeface="Times New Roman"/>
              </a:rPr>
              <a:t>Usuarios y permisos (II)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forma de definir que puede y que no puede hacer un usuario es a través de los permisos de los ficher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ada fichero tiene asociados TRES tipos de permisos diferentes:</a:t>
            </a: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Permiso de lectura: permite ver el contenido del ficher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Permiso de escritura: permite alterar el contenido del ficher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Permiso de ejecucion: permite ejecutar el fichero (en un directorio permite acceder a él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os permisos de un fichero solo pueden ser alterados por su propietario y por al administrador.</a:t>
            </a: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0"/>
            <a:ext cx="4572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2b70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371600"/>
            <a:ext cx="9144000" cy="304920"/>
          </a:xfrm>
          <a:prstGeom prst="rect">
            <a:avLst/>
          </a:prstGeom>
          <a:gradFill rotWithShape="0">
            <a:gsLst>
              <a:gs pos="0">
                <a:srgbClr val="2b70b5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371600"/>
            <a:ext cx="457200" cy="304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13F6-7041-492D-82C5-8BEF69321A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2b70b5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0" spc="-1" strike="noStrike" baseline="4000">
                <a:solidFill>
                  <a:srgbClr val="b2b2b2"/>
                </a:solidFill>
                <a:latin typeface="Times New Roman"/>
              </a:rPr>
              <a:t>Usuarios y permisos (III)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ero solo estos permisos no son suficientes, queremos otorgar diferentes permisos a diferentes grupos de usuari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ada usuario estará asociado a un grupo, compuesto por usuarios con características comu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e definen TRES conjuntos de usuar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El propietario del fiche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Los miembros del grupo del propietario del fiche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El resto de usuari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ara cada uno de estos grupos definiremos los tres permisos dife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0"/>
            <a:ext cx="4572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2b70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371600"/>
            <a:ext cx="9144000" cy="304920"/>
          </a:xfrm>
          <a:prstGeom prst="rect">
            <a:avLst/>
          </a:prstGeom>
          <a:gradFill rotWithShape="0">
            <a:gsLst>
              <a:gs pos="0">
                <a:srgbClr val="2b70b5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371600"/>
            <a:ext cx="457200" cy="304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3021-4D82-4F0E-87FA-8216C91F1D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2b70b5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0" spc="-1" strike="noStrike" baseline="4000">
                <a:solidFill>
                  <a:srgbClr val="b2b2b2"/>
                </a:solidFill>
                <a:latin typeface="Times New Roman"/>
              </a:rPr>
              <a:t>Usuarios y permisos (IV)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jemplo 1: comando 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-rwxr-xr-x</a:t>
            </a: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root          root</a:t>
            </a: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El propietario puede leer, modificar y ejecutar el fichero. Su grupo y el resto solo leerlo y ejecutarl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jemplo 2: directorio 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drwx------</a:t>
            </a: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jtpfevaa   profesores</a:t>
            </a: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jtpfeva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El propietario puede ver, modificar y acceder al contenido del directorio. Su grupo y el resto no pueden hacer nad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jemplo 3: directorio t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drwxrwxrwx   </a:t>
            </a: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root</a:t>
            </a: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   root</a:t>
            </a: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tm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Todo el mundo puede ver, modificar y acceder al directori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0"/>
            <a:ext cx="4572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2b70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371600"/>
            <a:ext cx="9144000" cy="304920"/>
          </a:xfrm>
          <a:prstGeom prst="rect">
            <a:avLst/>
          </a:prstGeom>
          <a:gradFill rotWithShape="0">
            <a:gsLst>
              <a:gs pos="0">
                <a:srgbClr val="2b70b5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371600"/>
            <a:ext cx="457200" cy="304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CA8E-1020-4921-8623-FAFE8ABC0F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2b70b5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0" spc="-1" strike="noStrike" baseline="4000">
                <a:solidFill>
                  <a:srgbClr val="b2b2b2"/>
                </a:solidFill>
                <a:latin typeface="Times New Roman"/>
              </a:rPr>
              <a:t>Sistema de ficheros (I)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25905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En el sistema de ficheros de los Unix, todo, absolutamente todo esta representado por un ficher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No existe el concepto de extensiones, un programa es un fichero que tiene permisos para ser ejecutad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Tampoco existen diferentes unidades lógicas correspondientes a los diferentes sistemas de archivos. Todo lo que hay en el sistema cuelga del directorio raíz /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0"/>
            <a:ext cx="4572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2b70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371600"/>
            <a:ext cx="9144000" cy="304920"/>
          </a:xfrm>
          <a:prstGeom prst="rect">
            <a:avLst/>
          </a:prstGeom>
          <a:gradFill rotWithShape="0">
            <a:gsLst>
              <a:gs pos="0">
                <a:srgbClr val="2b70b5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371600"/>
            <a:ext cx="457200" cy="304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175248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 baseline="4000">
                <a:solidFill>
                  <a:srgbClr val="b2b2b2"/>
                </a:solidFill>
                <a:latin typeface="Times New Roman"/>
              </a:rPr>
              <a:t>Todo es un ficher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349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6F6F-7E96-4D77-A354-9956CF41EA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2b70b5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0" spc="-1" strike="noStrike" baseline="4000">
                <a:solidFill>
                  <a:srgbClr val="b2b2b2"/>
                </a:solidFill>
                <a:latin typeface="Times New Roman"/>
              </a:rPr>
              <a:t>Sistema de ficheros (II)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4920" y="25905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El árbol de directorios de UNIX tiene una estructura bastante rígida, que hace fácil la búsqueda de ficheros de configuración, ayuda, etc. cuando hace falt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0"/>
            <a:ext cx="4572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2b70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371600"/>
            <a:ext cx="9144000" cy="304920"/>
          </a:xfrm>
          <a:prstGeom prst="rect">
            <a:avLst/>
          </a:prstGeom>
          <a:gradFill rotWithShape="0">
            <a:gsLst>
              <a:gs pos="0">
                <a:srgbClr val="2b70b5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371600"/>
            <a:ext cx="457200" cy="304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175248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 baseline="4000">
                <a:solidFill>
                  <a:srgbClr val="b2b2b2"/>
                </a:solidFill>
                <a:latin typeface="Times New Roman"/>
              </a:rPr>
              <a:t>Arbol de directori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349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dir" descr=""/>
          <p:cNvPicPr/>
          <p:nvPr/>
        </p:nvPicPr>
        <p:blipFill>
          <a:blip r:embed="rId2"/>
          <a:stretch/>
        </p:blipFill>
        <p:spPr>
          <a:xfrm>
            <a:off x="1447920" y="4191120"/>
            <a:ext cx="7429320" cy="190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7DB9-DADE-450F-82D6-C02E02EA69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2b70b5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0" spc="-1" strike="noStrike" baseline="4000">
                <a:solidFill>
                  <a:srgbClr val="b2b2b2"/>
                </a:solidFill>
                <a:latin typeface="Times New Roman"/>
              </a:rPr>
              <a:t>Entrando en Linux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7619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Lo primero que hay que hacer para entrar en el sistema es identificarse como un usuario concreto (introducir el nombre de usuario o login) y probar que, efectivamente, se es dicho usuario (introducir la clave asociada o password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0"/>
            <a:ext cx="4572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2b70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371600"/>
            <a:ext cx="9144000" cy="304920"/>
          </a:xfrm>
          <a:prstGeom prst="rect">
            <a:avLst/>
          </a:prstGeom>
          <a:gradFill rotWithShape="0">
            <a:gsLst>
              <a:gs pos="0">
                <a:srgbClr val="2b70b5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371600"/>
            <a:ext cx="457200" cy="304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175248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baseline="4000">
                <a:solidFill>
                  <a:srgbClr val="b2b2b2"/>
                </a:solidFill>
                <a:latin typeface="Times New Roman"/>
              </a:rPr>
              <a:t>Log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365760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baseline="4000">
                <a:solidFill>
                  <a:srgbClr val="b2b2b2"/>
                </a:solidFill>
                <a:latin typeface="Times New Roman"/>
              </a:rPr>
              <a:t>Sh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4191120"/>
            <a:ext cx="76197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Una vez autenticados, el sistema cargará el interprete de comandos (también llamado shell) asociado a nuestro usuario en el fichero /etc/passwd. A partir de este momento y hasta que desconectemos (logout, a través del comando exit) podremos introducir comandos que el interprete ejecutara (si tenemos los permisos adecuados), arrancar programas, etc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D737-048A-4CD6-8504-05225587DD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5T07:47:41Z</dcterms:created>
  <dc:creator>Joaquin Garay</dc:creator>
  <dc:description/>
  <dc:language>en-US</dc:language>
  <cp:lastModifiedBy>Administrador</cp:lastModifiedBy>
  <dcterms:modified xsi:type="dcterms:W3CDTF">2003-04-28T12:41:09Z</dcterms:modified>
  <cp:revision>269</cp:revision>
  <dc:subject/>
  <dc:title>Presentación de PowerPoint</dc:title>
</cp:coreProperties>
</file>